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7811"/>
        <c:axId val="67908933"/>
      </c:barChart>
      <c:catAx>
        <c:axId val="2907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08933"/>
        <c:crosses val="autoZero"/>
        <c:auto val="1"/>
        <c:lblAlgn val="ctr"/>
        <c:lblOffset val="100"/>
        <c:noMultiLvlLbl val="0"/>
      </c:catAx>
      <c:valAx>
        <c:axId val="67908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7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027-FCA4-47E2-B7CC-1E3A231C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36D-3398-4C46-AD6B-F4D6887B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9BE-AC1F-4048-AE53-A542EFFB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12E-0A5C-460E-9361-EA8C831D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94F-97AD-44E6-BFAE-03A2AB54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A3C-1214-4EC4-AA8D-640530C0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697-BF05-4BF1-BF1B-EB53FDC9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F92-6D89-4E0D-8FF3-93E2D400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F19-F7C9-4E03-9E94-E15B8388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AA1-C94D-43A0-B9E2-23817A51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CCA-5831-4347-9FC4-B9A11D9D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C67-8A44-4B60-82F7-8E72A848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13E4D-B92F-43F4-9933-ECAF440309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