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0054"/>
        <c:axId val="80852728"/>
      </c:barChart>
      <c:catAx>
        <c:axId val="773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52728"/>
        <c:crosses val="autoZero"/>
        <c:auto val="1"/>
        <c:lblAlgn val="ctr"/>
        <c:lblOffset val="100"/>
        <c:noMultiLvlLbl val="0"/>
      </c:catAx>
      <c:valAx>
        <c:axId val="80852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B8E-3157-4BC3-98A3-621BC300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C42-0993-40D4-BB9A-7A2B5D6D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2DE-17C5-4F53-B900-BCBD32A1E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AE8-23E2-45DB-9736-8043B1DC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71D-130C-4714-A8F7-9A63F259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7CB8-399C-492F-AE2E-9B7EA8A3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0C3-AC6C-4256-B0DF-4EDC4AAD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DDE-F75C-4E9D-AE5A-764393BE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020-5D7C-49A0-8A27-50F27098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207-0CCB-4FBF-9246-2BB4AAD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FDCE-0647-47E0-BEE3-72B4F8B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AFB0-8C78-4D11-984A-0C13626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6883F-2629-46CC-A364-BA502489F6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