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45317"/>
        <c:axId val="83483148"/>
      </c:barChart>
      <c:catAx>
        <c:axId val="79145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83148"/>
        <c:crosses val="autoZero"/>
        <c:auto val="1"/>
        <c:lblAlgn val="ctr"/>
        <c:lblOffset val="100"/>
        <c:noMultiLvlLbl val="0"/>
      </c:catAx>
      <c:valAx>
        <c:axId val="83483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5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B3C-34BD-4D08-AADD-51E20ACB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3E9-B6F3-4FB7-A633-5852258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374-6B6A-4961-9D3F-2AA7C645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C43-8101-4118-8E43-EE4DE1EA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C2A-EB20-4FA6-A460-5BDFA5F3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ADA-7C60-4971-96F1-F43100B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87E-074C-4607-A523-3BAEF01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9FD-E00F-4702-A0A5-589BEA0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C51-0AEE-4944-80EC-121CE37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8A8-C217-43AC-97AA-0C16410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951-D1A9-4DB8-9B62-B0C3833E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CC8-017A-4556-A9DA-0AC163A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15836-E7E0-4B01-A39E-239E26EAED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